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5.jpeg" ContentType="image/jpeg"/>
  <Override PartName="/ppt/media/image1.png" ContentType="image/png"/>
  <Override PartName="/ppt/media/image2.gif" ContentType="image/gi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C26-DE2D-461A-9780-3E42DDAF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EA5-E6BE-4B34-BAA2-1A13109D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B63-58D8-4284-BF6B-226640B4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7B4-B4B6-4618-AD13-D74EF7E7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E72-29E6-4E42-9B1D-528AC352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B90-0768-477D-8A5B-66A3F7AF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679-A5C8-4723-AAC1-80859E27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990-A8C0-4886-8E46-AF95C3B0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8FD-C5D3-4440-81F5-F75EC436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7B0-99F1-4DDD-AE01-2026E7C3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C00-4065-4892-84B2-AEF139B4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701-ED9B-4824-A3BC-9C280B6D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D2D9-5B11-4B59-92C9-4DC0199A8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linkx.com/burl?v=_wC7XZarnsGhCH6dexXiCjfn7fsSFlahMsHjluWFZ92cv2eUosS0n1Fj87j2aEoVpI4R1a8YwSXl-V9-zggryy2egS0W619iOy_KoG9vrHk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blinkx.com/burl?v=_wC7XZarnsGhCH6dexXiCjfn7fsSFlahMsHjluWFZ92cv2eUosS0n1Fj87j2aEoVpI4R1a8YwSXl-V9-zggryy2egS0W619iOy_KoG9vrHk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blinkx.com/burl?v=_wC7XZarnsGhCH6dexXiCjfn7fsSFlahMsHjluWFZ92cv2eUosS0n1Fj87j2aEoVpI4R1a8YwSXl-V9-zggryy2egS0W619iOy_KoG9vrHk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blinkx.com/burl?v=_wC7XZarnsGhCH6dexXiCjfn7fsSFlahMsHjluWFZ92cv2eUosS0n1Fj87j2aEoVpI4R1a8YwSXl-V9-zggryy2egS0W619iOy_KoG9vrHk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www.blinkx.com/burl?v=_wC7XZarnsGhCH6dexXiCjfn7fsSFlahMsHjluWFZ92cv2eUosS0n1Fj87j2aEoVpI4R1a8YwSXl-V9-zggryy2egS0W619iOy_KoG9vrHk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www.blinkx.com/burl?v=_wC7XZarnsGhCH6dexXiCjfn7fsSFlahMsHjluWFZ92cv2eUosS0n1Fj87j2aEoVpI4R1a8YwSXl-V9-zggryy2egS0W619iOy_KoG9vrHk" TargetMode="External"/><Relationship Id="rId12" Type="http://schemas.openxmlformats.org/officeDocument/2006/relationships/image" Target="../media/image1.png"/><Relationship Id="rId13" Type="http://schemas.openxmlformats.org/officeDocument/2006/relationships/hyperlink" Target="http://www.blinkx.com/burl?v=_wC7XZarnsGhCH6dexXiCjfn7fsSFlahMsHjluWFZ92cv2eUosS0n1Fj87j2aEoVpI4R1a8YwSXl-V9-zggryy2egS0W619iOy_KoG9vrHk" TargetMode="External"/><Relationship Id="rId14" Type="http://schemas.openxmlformats.org/officeDocument/2006/relationships/image" Target="../media/image1.png"/><Relationship Id="rId15" Type="http://schemas.openxmlformats.org/officeDocument/2006/relationships/hyperlink" Target="http://www.blinkx.com/burl?v=_wC7XZarnsGhCH6dexXiCjfn7fsSFlahMsHjluWFZ92cv2eUosS0n1Fj87j2aEoVpI4R1a8YwSXl-V9-zggryy2egS0W619iOy_KoG9vrHk" TargetMode="External"/><Relationship Id="rId16" Type="http://schemas.openxmlformats.org/officeDocument/2006/relationships/image" Target="../media/image1.png"/><Relationship Id="rId17" Type="http://schemas.openxmlformats.org/officeDocument/2006/relationships/hyperlink" Target="http://www.blinkx.com/burl?v=vvNQEA_ejwIbOB5BjV9kMzfGuzshs2fgcECj6ZC8O0XcYgP2gM1oqtSJMTf054d9M_ixxcXwvMBOyF-Vrxoewg" TargetMode="External"/><Relationship Id="rId18" Type="http://schemas.openxmlformats.org/officeDocument/2006/relationships/image" Target="../media/image1.png"/><Relationship Id="rId19" Type="http://schemas.openxmlformats.org/officeDocument/2006/relationships/hyperlink" Target="http://www.blinkx.com/burl?v=vvNQEA_ejwIbOB5BjV9kMzfGuzshs2fgcECj6ZC8O0XcYgP2gM1oqtSJMTf054d9M_ixxcXwvMBOyF-Vrxoewg" TargetMode="External"/><Relationship Id="rId20" Type="http://schemas.openxmlformats.org/officeDocument/2006/relationships/image" Target="../media/image1.png"/><Relationship Id="rId21" Type="http://schemas.openxmlformats.org/officeDocument/2006/relationships/hyperlink" Target="http://www.blinkx.com/burl?v=vvNQEA_ejwIbOB5BjV9kMzfGuzshs2fgcECj6ZC8O0XcYgP2gM1oqtSJMTf054d9M_ixxcXwvMBOyF-Vrxoewg" TargetMode="External"/><Relationship Id="rId22" Type="http://schemas.openxmlformats.org/officeDocument/2006/relationships/image" Target="../media/image1.png"/><Relationship Id="rId23" Type="http://schemas.openxmlformats.org/officeDocument/2006/relationships/hyperlink" Target="http://www.blinkx.com/burl?v=vvNQEA_ejwIbOB5BjV9kMzfGuzshs2fgcECj6ZC8O0XcYgP2gM1oqtSJMTf054d9M_ixxcXwvMBOyF-Vrxoewg" TargetMode="External"/><Relationship Id="rId24" Type="http://schemas.openxmlformats.org/officeDocument/2006/relationships/image" Target="../media/image1.png"/><Relationship Id="rId25" Type="http://schemas.openxmlformats.org/officeDocument/2006/relationships/hyperlink" Target="http://wzus.ask.com/r?t=p&amp;d=us&amp;s=a&amp;c=vdo&amp;l=dir&amp;o=0&amp;sv=0a300520&amp;ip=3d450c0b&amp;id=079835A7F4BC2AD260943A82B2E3AE94&amp;q=aboriginal+dances&amp;p=1&amp;qs=179&amp;ac=24&amp;g=30d5LRsSDz6dAM&amp;en=vs&amp;io=10&amp;ep=&amp;eo=&amp;b=v&amp;bc=&amp;br=&amp;tp=d&amp;ec=36&amp;pt=&amp;ex=&amp;url=http%253A%252F%252Fwww.revver.com&amp;u=http%3A%2F%2Fwww.blinkx.com%2Fburl%3Fv%3DCgOS9h3qLYo-d54Q0iVX2G5pe3bycgxLeiQar9zsVgn-lN7zR-ZA3F3QGitdvV1e-KrJf5g3Bgrqh2AA" TargetMode="External"/><Relationship Id="rId26" Type="http://schemas.openxmlformats.org/officeDocument/2006/relationships/image" Target="../media/image1.png"/><Relationship Id="rId27" Type="http://schemas.openxmlformats.org/officeDocument/2006/relationships/hyperlink" Target="http://www.animationfactory.com/en/search/close-up.mc?&amp;oid=4948654&amp;s=1&amp;sc=1&amp;st=7&amp;category_id=E1&amp;q=aboriginal&amp;spage=1&amp;hoid=6a5c13853720782db2b16e3630eca1b2" TargetMode="External"/><Relationship Id="rId28" Type="http://schemas.openxmlformats.org/officeDocument/2006/relationships/image" Target="../media/image2.gif"/><Relationship Id="rId29" Type="http://schemas.openxmlformats.org/officeDocument/2006/relationships/hyperlink" Target="http://www.animationfactory.com/en/search/close-up.mc?&amp;oid=4951087&amp;s=1&amp;sc=1&amp;st=7&amp;category_id=E1&amp;q=aboriginal&amp;spage=1&amp;hoid=344b26377af079beaebcf3587e57eddb" TargetMode="External"/><Relationship Id="rId30" Type="http://schemas.openxmlformats.org/officeDocument/2006/relationships/image" Target="../media/image3.gif"/><Relationship Id="rId31" Type="http://schemas.openxmlformats.org/officeDocument/2006/relationships/hyperlink" Target="http://www.animationfactory.com/en/search/close-up.mc?&amp;oid=4951444&amp;s=1&amp;sc=1&amp;st=7&amp;category_id=E1&amp;q=aboriginal&amp;spage=1&amp;hoid=5ece2b1873840ff983a4d7fb03cffb2b" TargetMode="External"/><Relationship Id="rId32" Type="http://schemas.openxmlformats.org/officeDocument/2006/relationships/image" Target="../media/image4.gif"/><Relationship Id="rId33" Type="http://schemas.openxmlformats.org/officeDocument/2006/relationships/hyperlink" Target="http://www.animationfactory.com/en/search/close-up.mc?&amp;oid=10799747&amp;s=1&amp;sc=1&amp;st=1127&amp;category_id=E1&amp;q=gold&amp;spage=1&amp;hoid=cdfa1358d1db4328cea67d47c541e9f6" TargetMode="External"/><Relationship Id="rId34" Type="http://schemas.openxmlformats.org/officeDocument/2006/relationships/image" Target="../media/image5.gif"/><Relationship Id="rId35" Type="http://schemas.openxmlformats.org/officeDocument/2006/relationships/hyperlink" Target="http://www.animationfactory.com/en/search/close-up.mc?&amp;oid=10590584&amp;s=1&amp;sc=1&amp;st=1127&amp;category_id=E1&amp;q=gold&amp;spage=1&amp;hoid=ebc1f66b76c90c2e5ffb7bba892cca07" TargetMode="External"/><Relationship Id="rId36" Type="http://schemas.openxmlformats.org/officeDocument/2006/relationships/image" Target="../media/image6.gif"/><Relationship Id="rId3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-243000"/>
            <a:ext cx="7620120" cy="16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ahootz Cartoon"/>
              </a:rPr>
              <a:t>First austrailans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ahootz Cartoon"/>
              <a:ea typeface="Kahootz Cartoon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55520" y="460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095720" y="3071880"/>
            <a:ext cx="952560" cy="714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4360" y="1484280"/>
            <a:ext cx="79866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y julian &amp; kyle &amp; Nimasha and Dylan R</a:t>
            </a:r>
            <a:endParaRPr b="0" lang="en-US" sz="6000" spc="1" strike="noStrike">
              <a:ln w="12600">
                <a:solidFill>
                  <a:srgbClr val="993366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Aboriginal Fl Animation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0" y="4653000"/>
            <a:ext cx="857160" cy="2205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Didgeridoo Revolving Animation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26920" y="4653000"/>
            <a:ext cx="857520" cy="220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raditional Aboriginal Instruments Rocking Animation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619280" y="4437000"/>
            <a:ext cx="85716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Victorious swimmer raising hands Animation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2484360" y="4797360"/>
            <a:ext cx="857160" cy="2060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int Patrick's Day leprechaun peeking from pot of gold Animation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3276720" y="4581360"/>
            <a:ext cx="1582560" cy="22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72063E-006 C -0.00712 0.0007 -0.01423 0.00093 -0.02135 0.00185 C -0.02969 0.00301 -0.03732 0.00972 -0.04531 0.01249 C -0.05469 0.02059 -0.04288 0.01134 -0.0559 0.01781 C -0.05989 0.01989 -0.05955 0.02174 -0.06267 0.02498 C -0.06927 0.03192 -0.0776 0.03747 -0.08524 0.04256 C -0.09462 0.05574 -0.10642 0.06545 -0.11597 0.07817 C -0.12083 0.09552 -0.12482 0.10939 -0.12656 0.12789 C -0.12569 0.15241 -0.12465 0.17137 -0.11736 0.19357 C -0.11406 0.21832 -0.11111 0.24237 -0.10521 0.26619 C -0.10382 0.2722 -0.10295 0.27845 -0.10121 0.284 C -0.09896 0.29163 -0.09323 0.30551 -0.09323 0.30551 C -0.0908 0.32378 -0.08646 0.3395 -0.07864 0.355 C -0.07708 0.35801 -0.07778 0.36263 -0.07604 0.36587 C -0.07048 0.37581 -0.0618 0.38691 -0.0533 0.39246 C -0.04427 0.40449 -0.03107 0.41328 -0.01857 0.41744 C -0.01406 0.41675 -0.00937 0.41744 -0.00521 0.41559 C -0.00364 0.4149 -0.00278 0.41235 -0.0026 0.41027 C -0.00069 0.38668 -0.00972 0.36171 0.00799 0.35315 C 0.01962 0.36541 0.02917 0.38344 0.03733 0.39963 C 0.04618 0.41767 0.03542 0.40403 0.04809 0.41744 C 0.05278 0.42762 0.0592 0.43872 0.06806 0.44219 C 0.0724 0.43849 0.07674 0.4364 0.08143 0.4334 C 0.08785 0.42484 0.09288 0.42253 0.1 0.41559 C 0.11649 0.39963 0.1309 0.38691 0.14011 0.36217 C 0.14236 0.33858 0.15313 0.31661 0.16268 0.29672 C 0.1684 0.28446 0.17049 0.26989 0.17604 0.2574 C 0.17899 0.24122 0.18351 0.22734 0.18802 0.21138 C 0.19167 0.19843 0.19236 0.18502 0.19601 0.1723 C 0.2007 0.13668 0.20313 0.11309 0.17604 0.10847 C 0.16233 0.1087 0.11493 0.10199 0.08941 0.11379 C 0.0842 0.12026 0.07344 0.12234 0.06667 0.12443 C 0.04479 0.13136 0.0224 0.13622 2.5E-006 0.13853 C -0.03073 0.14871 -0.0618 0.1457 -0.09323 0.14917 C -0.1283 0.1531 -0.16337 0.15773 -0.19861 0.15981 C -0.24479 0.15634 -0.28802 0.1494 -0.33333 0.1457 C -0.34444 0.1427 -0.35573 0.14154 -0.36666 0.13853 C -0.39062 0.13183 -0.4118 0.11679 -0.43455 0.10662 C -0.44201 0.0969 -0.43993 0.10153 -0.44271 0.09413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 0.13137 C 0.27934 0.12466 0.25833 0.11518 0.23715 0.11194 C 0.22309 0.10986 0.1901 0.10755 0.17344 0.10639 C 0.12812 0.10824 0.08264 0.11148 0.03732 0.11356 C 0.02482 0.11472 0.0125 0.1161 -1.38778E-017 0.11726 C -0.01285 0.11865 -0.03854 0.12073 -0.03854 0.12073 C -0.05625 0.1242 -0.07448 0.12582 -0.09219 0.1279 C -0.10868 0.13299 -0.07934 0.1242 -0.12014 0.13137 C -0.12726 0.13252 -0.13542 0.13692 -0.14271 0.13854 C -0.14931 0.14293 -0.15538 0.14409 -0.16285 0.14547 C -0.18073 0.15565 -0.19809 0.16028 -0.21597 0.1723 C -0.21823 0.17369 -0.21927 0.17739 -0.22136 0.17924 C -0.22257 0.1804 -0.22413 0.18016 -0.22535 0.18109 C -0.23386 0.18756 -0.24063 0.19682 -0.24931 0.20237 C -0.25886 0.21555 -0.26945 0.22989 -0.28264 0.23613 C -0.29167 0.25255 -0.2875 0.24631 -0.29462 0.25579 C -0.29861 0.26943 -0.29583 0.26203 -0.30399 0.27707 C -0.30747 0.28655 -0.3099 0.2951 -0.31458 0.30366 C -0.31511 0.30551 -0.31528 0.30736 -0.31597 0.30898 C -0.31667 0.31083 -0.31806 0.31222 -0.31858 0.3143 C -0.32257 0.32841 -0.32396 0.34344 -0.32934 0.35685 C -0.33351 0.3809 -0.33958 0.40357 -0.3467 0.42623 C -0.35122 0.4408 -0.35087 0.45653 -0.3559 0.47064 C -0.36094 0.50903 -0.36528 0.54742 -0.36927 0.58604 C -0.36875 0.60153 -0.36945 0.61703 -0.36788 0.63229 C -0.36754 0.63576 -0.36511 0.63807 -0.36389 0.64108 C -0.35955 0.65311 -0.35573 0.65819 -0.34792 0.66606 C -0.32361 0.69057 -0.29167 0.70306 -0.26268 0.71578 C -0.19983 0.74307 -0.13542 0.76134 -0.06945 0.7655 C -0.03507 0.76365 -0.000870000000000003 0.76342 0.03333 0.76018 C 0.03802 0.75972 0.04219 0.75625 0.04653 0.75486 C 0.0809 0.74376 0.1059 0.7241 0.13732 0.70514 C 0.15503 0.68155 0.1375 0.7026 0.15868 0.68363 C 0.16962 0.67369 0.18194 0.65819 0.19201 0.64825 C 0.19965 0.64039 0.20451 0.62836 0.2118 0.6198 C 0.23715 0.59043 0.2625 0.55875 0.28524 0.52568 C 0.30607 0.49561 0.325 0.46509 0.3441 0.4334 C 0.35035 0.42299 0.35868 0.41444 0.36406 0.40311 C 0.36927 0.392 0.37309 0.37998 0.37864 0.36934 C 0.38993 0.34783 0.40399 0.32794 0.41597 0.30713 C 0.42726 0.2877 0.43611 0.26504 0.4467 0.24515 C 0.45816 0.22364 0.47153 0.20306 0.48403 0.18294 C 0.51128 0.13854 0.53611 0.0902 0.55989 0.04256 C 0.57691 0.00903 0.58646 -0.02936 0.60139 -0.06405 C 0.60364 -0.07932 0.60538 -0.09481 0.60798 -0.11008 C 0.60694 -0.12858 0.6066 -0.14708 0.60538 -0.16535 C 0.6033 -0.19009 0.5934 -0.22108 0.58125 -0.23982 C 0.57673 -0.24722 0.57048 -0.25508 0.56267 -0.25577 C 0.54427 -0.25739 0.52621 -0.25832 0.50798 -0.25948 C 0.48889 -0.26248 0.46979 -0.26503 0.45069 -0.26826 C 0.41319 -0.28214 0.36667 -0.27243 0.33212 -0.27173 C 0.32344 -0.26734 0.31441 -0.26595 0.30538 -0.26294 C 0.29583 -0.25577 0.28646 -0.24999 0.27604 -0.24514 C 0.26962 -0.23912 0.26232 -0.23519 0.2559 -0.22918 C 0.23958 -0.21368 0.2243 -0.19148 0.2118 -0.17067 C 0.20364 -0.15726 0.19653 -0.14292 0.18802 -0.12973 C 0.16875 -0.10013 0.19167 -0.13875 0.17066 -0.10846 C 0.16719 -0.1036 0.1658 -0.09597 0.16146 -0.0925 C 0.15312 -0.08602 0.14496 -0.07701 0.13611 -0.07284 C 0.13021 -0.06567 0.12205 -0.06683 0.11476 -0.06405 C 0.10521 -0.06059 0.09635 -0.05295 0.08663 -0.05157 C 0.07951 -0.05064 0.07257 -0.05041 0.06545 -0.04972 C 0.05937 -0.0474 0.0533 -0.04625 0.04792 -0.04093 C 0.04601 -0.03885 0.04496 -0.03561 0.04271 -0.03376 C 0.03715 -0.02913 0.03351 -0.03029 0.02812 -0.02312 C 0.02482 -0.01873 0.02361 -0.01711 0.01979 -0.01433 C 0.01649 -0.01179 0.00937 -0.00716 0.00937 -0.00716 C 0.00156 0.00324 -0.00851 0.01018 -0.01858 0.01596 C -0.02257 0.02105 -0.02726 0.02082 -0.03195 0.02475 C -0.0342 0.02429 -0.0375 0.02591 -0.03854 0.02313 C -0.03941 0.02082 -0.03611 0.0192 -0.03455 0.01758 C -0.03212 0.01504 -0.02656 0.01041 -0.02656 0.01041 C -0.02413 0.000240000000000001 -0.01788 -0.00231 -0.01077 -0.00531 C -0.00573 -0.00485 -0.00018 -0.00693 0.00399 -0.00369 C 0.01059 0.00139 -0.00313 0.01018 -0.00399 0.01041 C -0.00955 0.0081 -0.01337 -0.00069 -0.00816 -0.00901 C -0.00538 -0.01318 0.00278 -0.01595 0.00278 -0.01595 C 0.00503 -0.01549 0.00833 -0.01711 0.00937 -0.01433 C 0.01146 -0.00786 0.00521 0.0125 0.00139 0.01758 C 0.00035 0.01897 -0.00122 0.01874 -0.00261 0.01943 C -0.00399 0.01828 -0.00625 0.01805 -0.0066 0.01596 C -0.00868 0.00625 -0.00226 0.00625 -1.38778E-017 7.62257E-006 E">
                                      <p:cBhvr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ey told the dreamtime stories to their k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They body painted when they were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404640"/>
            <a:ext cx="842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00ff00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hat the Aboriginals  did befor the white people came to Australia!!!!!</a:t>
            </a:r>
            <a:endParaRPr b="0" lang="en-US" sz="1800" spc="1" strike="noStrike">
              <a:ln cap="rnd" w="12600">
                <a:solidFill>
                  <a:srgbClr val="00ff00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Banner artwork by Jillary Lynch, Keringke Arts NT"/>
          <p:cNvPicPr/>
          <p:nvPr/>
        </p:nvPicPr>
        <p:blipFill>
          <a:blip r:embed="rId3"/>
          <a:stretch/>
        </p:blipFill>
        <p:spPr>
          <a:xfrm>
            <a:off x="7020000" y="4005360"/>
            <a:ext cx="1714320" cy="161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Aboriginal flag"/>
          <p:cNvPicPr/>
          <p:nvPr/>
        </p:nvPicPr>
        <p:blipFill>
          <a:blip r:embed="rId4"/>
          <a:stretch/>
        </p:blipFill>
        <p:spPr>
          <a:xfrm>
            <a:off x="2916360" y="3933720"/>
            <a:ext cx="23032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2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2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8 0 0.069 0.0413 0.069 0.09191 C 0.069 0.12522 0.056 0.15452 0.037 0.17184 L 0.036 0.17184 C 0.029 0.1785 0.025 0.18916 0.025 0.20115 C 0.025 0.2118 0.029 0.22113 0.034 0.22779 C 0.042 0.23845 0.047 0.25443 0.047 0.27042 C 0.047 0.30505 0.026 0.33302 0 0.33302 C -0.026 0.33302 -0.047 0.30505 -0.047 0.27042 C -0.047 0.25443 -0.042 0.23845 -0.034 0.22779 C -0.029 0.22113 -0.026 0.2118 -0.026 0.20115 C -0.026 0.18916 -0.03 0.1785 -0.036 0.17184 L -0.037 0.17184 C -0.057 0.15452 -0.07 0.12522 -0.07 0.09191 C -0.07 0.0413 -0.039 0 0 0 Z">
                                      <p:cBhvr>
                                        <p:cTn id="32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ir clothes were made out of grass and b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y lived every where in Australia and roamed over the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boriginals invented boomerang for hunting and didgeridoos for their mu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Bush Medicine Dreaming - Video Interview with Aboriginal Artist Gloria Petyarre"/>
          <p:cNvPicPr/>
          <p:nvPr/>
        </p:nvPicPr>
        <p:blipFill>
          <a:blip r:embed="rId4"/>
          <a:stretch/>
        </p:blipFill>
        <p:spPr>
          <a:xfrm>
            <a:off x="468360" y="0"/>
            <a:ext cx="8224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9 L 0.108 0.08259 L 0.072 0.16651 L 0.108 0.2491 L 0.036 0.2491 L 0 0.33302 L -0.036 0.2491 L -0.108 0.2491 L -0.072 0.16651 L -0.108 0.08259 L -0.036 0.08259 L 0 0 Z">
                                      <p:cBhvr>
                                        <p:cTn id="55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9 L 0.108 0.08259 L 0.072 0.16651 L 0.108 0.2491 L 0.036 0.2491 L 0 0.33302 L -0.036 0.2491 L -0.108 0.2491 L -0.072 0.16651 L -0.108 0.08259 L -0.036 0.08259 L 0 0 Z">
                                      <p:cBhvr>
                                        <p:cTn id="6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9 L 0.108 0.08259 L 0.072 0.16651 L 0.108 0.2491 L 0.036 0.2491 L 0 0.33302 L -0.036 0.2491 L -0.108 0.2491 L -0.072 0.16651 L -0.108 0.08259 L -0.036 0.08259 L 0 0 Z">
                                      <p:cBhvr>
                                        <p:cTn id="64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aboriginals always looked after the land and never  cut down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Utopia Art"/>
          <p:cNvPicPr/>
          <p:nvPr/>
        </p:nvPicPr>
        <p:blipFill>
          <a:blip r:embed="rId2"/>
          <a:stretch/>
        </p:blipFill>
        <p:spPr>
          <a:xfrm>
            <a:off x="0" y="3833640"/>
            <a:ext cx="3780000" cy="302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635280" y="3141720"/>
            <a:ext cx="3295800" cy="371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 rot="5144400">
            <a:off x="6239880" y="4290840"/>
            <a:ext cx="3500640" cy="165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5 0 E">
                                      <p:cBhvr>
                                        <p:cTn id="7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3125 -0.0296 -0.0684 -0.06706 -0.10538 -0.08348 C -0.12743 -0.09343 -0.15035 -0.09597 -0.17327 -0.09782 C -0.20747 -0.09435 -0.24011 -0.07585 -0.27205 -0.06036 C -0.29514 -0.04926 -0.29271 -0.05203 -0.31337 -0.03746 C -0.32448 -0.0296 -0.3342 -0.02127 -0.34392 -0.01063 C -0.35261 -0.000920000000000001 -0.36927 0.01943 -0.36927 0.01943 C -0.37153 0.02591 -0.37413 0.03238 -0.37604 0.03909 C -0.37986 0.0525 -0.38663 0.07979 -0.38663 0.07979 C -0.38906 0.11309 -0.39097 0.13206 -0.38524 0.1723 C -0.38177 0.19681 -0.37361 0.21832 -0.36129 0.23613 C -0.35139 0.2507 -0.3434 0.26874 -0.33056 0.27868 C -0.27847 0.31869 -0.24549 0.33742 -0.18403 0.34274 C -0.16233 0.33974 -0.13993 0.3402 -0.11858 0.33372 C -0.08264 0.32308 -0.0599 0.29371 -0.04392 0.25209 C -0.02205 0.1353 -0.06962 0.03146 -0.14531 -0.02312 C -0.19896 -0.06174 -0.17882 -0.05689 -0.21337 -0.06036 C -0.25469 -0.07169 -0.29514 -0.09135 -0.33733 -0.09412 C -0.37413 -0.09643 -0.44809 -0.10129 -0.44809 -0.10129 C -0.49827 -0.09852 -0.51233 -0.10222 -0.5507 -0.07284 C -0.56302 -0.02266 -0.5434 0.02984 -0.53195 0.07632 C -0.51719 0.13622 -0.50017 0.18872 -0.46927 0.23798 C -0.46163 0.25024 -0.45208 0.26018 -0.4441 0.27174 C -0.43507 0.28446 -0.42813 0.29903 -0.41858 0.31083 C -0.39653 0.33881 -0.36424 0.37003 -0.33455 0.38183 C -0.31754 0.38853 -0.28264 0.39778 -0.28264 0.39778 C -0.24462 0.39455 -0.22674 0.3994 -0.2 0.36402 C -0.18924 0.33303 -0.1849 0.31291 -0.18281 0.27868 C -0.1842 0.24168 -0.18472 0.19427 -0.19479 0.15796 C -0.19879 0.14246 -0.21389 0.10199 -0.22396 0.08511 C -0.23594 0.06476 -0.26215 0.04186 -0.27726 0.03539 C -0.29965 0.02591 -0.3217 0.01642 -0.34392 0.00694 C -0.35452 0.00232 -0.36615 0.0037 -0.37726 0.00162 C -0.42917 -0.00763 -0.3941 -0.00416 -0.44132 -0.00716 C -0.49514 -0.00439 -0.51962 -0.00693 -0.56129 0.02845 C -0.57847 0.07447 -0.5349 0.14061 -0.50799 0.16328 C -0.41476 0.24145 -0.32031 0.24931 -0.21198 0.2574 C -0.15278 0.25185 -0.05851 0.26827 -0.02795 0.17762 C -0.02743 0.17345 -0.02691 0.16929 -0.02656 0.16513 C -0.0257 0.15495 -0.02396 0.13483 -0.02396 0.13483 C -0.02465 0.12165 -0.02448 0.07748 -0.03455 0.06198 C -0.04063 0.05273 -0.05295 0.04765 -0.06146 0.04441 C -0.15886 0.04741 -0.27136 0.0747 -0.33333 0.18641 C -0.33472 0.19288 -0.33733 0.19936 -0.33733 0.20606 C -0.33733 0.21855 -0.33629 0.2315 -0.33333 0.2433 C -0.33142 0.25116 -0.31927 0.25856 -0.31458 0.26111 C -0.29688 0.27036 -0.28004 0.27012 -0.26129 0.27174 C -0.23281 0.26804 -0.22465 0.26966 -0.20122 0.25926 C -0.16129 0.24145 -0.11927 0.19566 -0.09462 0.15079 C -0.09115 0.13715 -0.08663 0.12304 -0.08663 0.10824 C -0.08663 0.08049 -0.08715 0.06568 -0.09462 0.04256 C -0.12952 -0.06683 -0.22813 -0.06383 -0.30417 -0.06938 C -0.40538 -0.06614 -0.49844 -0.05157 -0.59861 -0.03561 C -0.64688 -0.0141 -0.63038 -0.02844 -0.6533 -0.00531 C -0.6658 0.02799 -0.62639 0.07401 -0.6066 0.09228 C -0.54045 0.1531 -0.47153 0.20491 -0.39202 0.22364 C -0.37153 0.2204 -0.35313 0.22572 -0.33733 0.20953 C -0.32083 0.19265 -0.31702 0.16513 -0.30816 0.142 C -0.29115 0.09922 -0.2717 0.05805 -0.25191 0.01758 C -0.22795 -0.03168 -0.2125 -0.05157 -0.18403 -0.09412 C -0.17726 -0.1043 -0.16892 -0.11193 -0.16129 -0.12095 C -0.15972 -0.1228 -0.15434 -0.12257 -0.1559 -0.12442 C -0.15781 -0.1265 -0.16042 -0.12326 -0.16285 -0.12257 C -0.16059 -0.11447 -0.14445 -0.09088 -0.13993 -0.08348 C -0.13802 -0.08048 -0.1375 -0.07631 -0.13594 -0.07284 C -0.13142 -0.06267 -0.12535 -0.05388 -0.11997 -0.0444 C -0.11198 -0.03029 -0.10486 -0.01642 -0.09462 -0.00531 C -0.08993 0.0074 -0.09167 0.01619 -0.08142 0.0229 C -0.07743 0.02822 -0.07517 0.03331 -0.07066 0.03724 C -0.06649 0.04811 -0.06198 0.05458 -0.05469 0.06198 C -0.05139 0.07077 -0.04844 0.07725 -0.0467 0.08696 C -0.05087 0.10546 -0.0507 0.08881 -0.0507 0.11888 E">
                                      <p:cBhvr>
                                        <p:cTn id="81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23:40:22Z</dcterms:created>
  <dc:creator>room17</dc:creator>
  <dc:description/>
  <dc:language>en-US</dc:language>
  <cp:lastModifiedBy>room17</cp:lastModifiedBy>
  <dcterms:modified xsi:type="dcterms:W3CDTF">2008-09-19T00:22:19Z</dcterms:modified>
  <cp:revision>6</cp:revision>
  <dc:subject/>
  <dc:title>Slide 1</dc:title>
</cp:coreProperties>
</file>